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8C0E8-190D-4589-BD0B-34BB766E3E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167E1-4B9E-4A0D-AD18-3C5226E6CE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B7606-FBD4-46DF-980B-3AC6C99A84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9724C-565F-430F-AB7E-A5AFBE2E10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CB1F8-E8F0-4C7A-B806-045266C519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692F-DA72-41ED-8D3D-DD25F8825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C437-9C54-47CE-A43E-75777E19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A9F0-B402-4B24-9169-69B3751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1446-2C25-4197-854D-C64EBE2FE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4EDA-060E-4547-B578-7E8B8C6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0789-6A9D-4489-BC1D-C5459F9E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E679-83C8-414B-A874-6414F276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A23A-583D-4482-8D17-6B25AAC2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0EA5-682C-4B5D-BE92-82BB9067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8E1D-75F7-4733-9D92-E6A8CBA6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4069-3F59-4AFD-9E05-0D9808A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D6A5-19DE-4267-83AA-73BF8A56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889D5A-1FE8-4EAB-9085-31EABBC0DD7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DINÁMICA DE LA ATMÓ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atmó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71640" y="1197000"/>
            <a:ext cx="79214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atmósfera se dan movimientos de convección muy similares 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se observan en la geosf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movimientos de masas de aire son lo que denominamos v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námica de la atmó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2879640" y="2549520"/>
            <a:ext cx="3240000" cy="3749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684360" y="3284640"/>
            <a:ext cx="208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Sol calient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uperficie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ierra, y esta a su vez calienta el aire en contacto con ella. Este aire caliente, menos denso, ascien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 rot="2160000">
            <a:off x="2370240" y="5184720"/>
            <a:ext cx="1509480" cy="146160"/>
          </a:xfrm>
          <a:prstGeom prst="rightArrow">
            <a:avLst>
              <a:gd name="adj1" fmla="val 34648"/>
              <a:gd name="adj2" fmla="val 108392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9640" y="2565360"/>
            <a:ext cx="24843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scender, el aire caliente desplaz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ire frío de las capas altas, que al ser más denso, descien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rot="9420000">
            <a:off x="5248440" y="3633840"/>
            <a:ext cx="1366560" cy="139680"/>
          </a:xfrm>
          <a:prstGeom prst="rightArrow">
            <a:avLst>
              <a:gd name="adj1" fmla="val 34648"/>
              <a:gd name="adj2" fmla="val 10897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250920" y="3357720"/>
            <a:ext cx="36036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6300720" y="2637000"/>
            <a:ext cx="35892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8:12Z</dcterms:modified>
  <cp:revision>46</cp:revision>
  <dc:subject/>
  <dc:title>Diapositiva 1</dc:title>
</cp:coreProperties>
</file>